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B65A-B9EB-458C-B5A9-9B5BCB487D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2879-3007-4AA3-A202-057A1D53EA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6C98-692B-4AD7-9B1F-5E310B3D57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41CF-47C1-4B95-9832-F6C03A5F94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463F-691F-4A1C-AC92-FD2CB24474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99CE-774D-4FC9-AC83-95FAAAD3F0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31F7-0E9D-402A-AEDC-DDE912E68E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ABCC-EA2D-426C-BFCF-2B363E9D75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3AA1-8C39-4B0E-9352-73FF981813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D3DC-1581-497D-949F-808783B388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2A51-D0B3-47D3-9784-522090CD3C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24FA-7079-44FA-9D69-AC7D63F0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60F-3AA8-456D-A35E-D48FC908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8DA-E06E-4BD7-9BDF-3E8F2B37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74E-17A3-4317-8805-7341BB5B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1452-0619-4622-B434-298A8B11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47A3-7189-4F1A-A920-A405CF54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CA88-6D91-45A5-BC58-D78F7536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8156-3209-4C7E-837A-25F542C4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0C29-C57E-483B-B56B-1B0E47A8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DFA8-9422-4A4D-A5B4-3B11002A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A5A2-EDC3-4EF2-BE27-A714A6CD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AA3-A91E-42A9-A941-12E0CAF0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8981-8AE2-477F-B8D1-2FCBDA5A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1653-3366-4B6F-9218-9793494B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CEE3-7420-4630-B3B3-832919BA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183F-3413-40FD-A062-75A24CDD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3302-920D-4E20-A24F-3C7EAD3F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BF89-2CD1-4EDC-87E5-D5043755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9E40-5376-4804-AD3B-97F9B4F3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170-4B4B-4D69-BB6C-094B33DA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08D-F940-4ADB-813D-CB6F6E32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8EE-4E60-41A3-8FBA-8A4C6CBF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8D36-23A3-4447-95DF-DF8D4EF7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63D3-FCE5-44E2-A4AC-D04BCC13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84FA-CD2C-44E6-811F-E4C5C8F33D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C8E3-1BB4-4554-87B8-002BFA67A4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03788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66"/>
                </a:solidFill>
                <a:latin typeface="Times New Roman"/>
              </a:rPr>
              <a:t>The role of ‘self’ in anthropological 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jaak van der Ge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Group and plenary discussion about own research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cribe th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tance red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iscove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per ins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Concluding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tiv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tual ‘exploitation’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endipity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 / reflex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[examples from medical anthropolog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25560" y="0"/>
            <a:ext cx="8219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hared experience is basis of understanding: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es distance between researcher and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ads to new disco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duces deeper insights (cognitively, emotion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Personal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aling / c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iting for transport and trav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s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1: In a nursing h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: helping in car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overy: not eating / 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ight: “a good day if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man, R. (2005) Verplegen bij versterven: De meerwaarde van intensief participeren [Nursing and ’versterven’: The surplus of intensive participation].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WALO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: 20-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Limitations of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stricted range of activities / aspects of life (poverty, sickness, religion, sex, hunger, fear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lf-hearted (observing at the same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tuit (existential meaning of experi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2: Motherhood and childcare in Domin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ualit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wn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meich, A. (1994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he blessings of motherhood: Health, pregnancy and child care in Dominica.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msterdam: Het Spinhu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3: Having canc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tical vs horizontal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e-person b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us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unsp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jhof, G. (2001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iekenwerk. Een kleine sociologie van alledaags ziekenl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[Sick work: A small sociology of everyday sick life].Amsterdam: Aks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3:45:31Z</dcterms:created>
  <dc:creator>Sjaak</dc:creator>
  <dc:description/>
  <dc:language>en-US</dc:language>
  <cp:lastModifiedBy>Owner</cp:lastModifiedBy>
  <dcterms:modified xsi:type="dcterms:W3CDTF">2013-11-18T13:57:47Z</dcterms:modified>
  <cp:revision>5</cp:revision>
  <dc:subject/>
  <dc:title>The ‘philosophy’ of anthropological fieldwork</dc:title>
</cp:coreProperties>
</file>